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suction.wav" ContentType="audio/x-wav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1BC9-2A5E-452F-BEA9-F3920A8AA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5BD3-F348-43EC-9B51-ABC96654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8151-B392-44D6-905D-DFFCBBC99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E386-382C-4A98-9E94-6F2FC4169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D5A6-5DDA-4012-9CBA-C39028EE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5779-7A11-4A14-8266-9A5D74E4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BB52-EFCB-4474-BCD6-72A08136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B4A7-9C52-4613-B3CC-869C081C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02B2-8180-4AA0-A0A6-27F510C5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CEEF-A065-4BF4-AD61-FD764AC3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0AEE-1E5D-4A08-B8AD-858FF27A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49E3-CE66-4540-A83D-5C3CA1AA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3FD7-478F-45FE-AB5E-601FF063E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upload.wikimedia.org/wikipedia/commons/thumb/0/03/Loin_katsu_curry_rice_by_jetalone_in_Tokyo.jpg/800px-Loin_katsu_curry_rice_by_jetalone_in_Tokyo.jpg&amp;imgrefurl=http://commons.wikimedia.org/wiki/Image:Loin_katsu_curry_rice_by_jetalone_in_Tokyo.jpg&amp;h=600&amp;w=800&amp;sz=113&amp;hl=en&amp;start=2&amp;um=1&amp;usg=__DbWq9vBPYL5gKfnLRvGElWIuw_s=&amp;tbnid=5nhCpVVAqzNbrM:&amp;tbnh=107&amp;tbnw=143&amp;prev=/images%3Fq%3Dkatsu%2Bcurry%26um%3D1%26hl%3Den%26sa%3DN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erlin Sans FB"/>
              </a:rPr>
              <a:t>All about M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erlin Sans FB"/>
              </a:rPr>
              <a:t>Justin Humphrey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635280" y="404640"/>
            <a:ext cx="20383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erlin Sans FB"/>
              </a:rPr>
              <a:t>My hobbies and interes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play go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support Manchester United of course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64000" y="1557360"/>
            <a:ext cx="2067120" cy="1787400"/>
          </a:xfrm>
          <a:prstGeom prst="rect">
            <a:avLst/>
          </a:prstGeom>
          <a:ln w="63360">
            <a:solidFill>
              <a:srgbClr val="000000"/>
            </a:solidFill>
            <a:prstDash val="lgDashDot"/>
            <a:miter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492360" y="4869000"/>
            <a:ext cx="182736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animMotion origin="layout" path="M 6.11111E-006 -2.57169E-006 C 0.01164 -0.01804 0.02466 -0.04602 0.04046 -0.05989 C 0.08143 -0.09597 0.06806 -0.08002 0.10574 -0.11008 C 0.11806 -0.11979 0.12952 -0.13136 0.14202 -0.14084 C 0.15574 -0.15125 0.17015 -0.15957 0.18404 -0.16975 C 0.19671 -0.179 0.20852 -0.19102 0.22171 -0.19889 C 0.23977 -0.20976 0.25956 -0.21484 0.27813 -0.22386 C 0.30678 -0.21299 0.31268 -0.21901 0.32171 -0.18339 C 0.32379 -0.16651 0.32709 -0.15032 0.329 -0.13321 C 0.33143 -0.11008 0.33612 -0.0636 0.33612 -0.0636 C 0.3382 -0.01364 0.33942 0.03631 0.33039 0.08511 C 0.32501 0.14455 0.31581 0.20329 0.31008 0.26272 C 0.30852 0.29487 0.30504 0.31961 0.32171 0.34575 C 0.34723 0.43826 0.3106 0.30898 0.35504 0.44612 C 0.3599 0.46092 0.36355 0.47641 0.36945 0.49052 C 0.3757 0.50555 0.38456 0.51827 0.39133 0.53284 C 0.34636 0.54001 0.30331 0.55782 0.25799 0.56152 C 0.22188 0.5717 0.19706 0.56823 0.15799 0.56568 C 0.08352 0.54926 0.01216 0.52683 -0.06388 0.52336 C -0.10294 0.52452 -0.11805 0.52591 -0.15069 0.53284 C -0.19357 0.52914 -0.22898 0.52498 -0.271 0.52706 C -0.28576 0.53423 -0.29374 0.52452 -0.30589 0.51157 C -0.34096 0.4741 -0.37169 0.42947 -0.38697 0.37258 C -0.38749 0.36564 -0.38888 0.35847 -0.38853 0.35153 C -0.38784 0.33603 -0.38194 0.32031 -0.38402 0.30505 C -0.38471 0.29973 -0.39183 0.30111 -0.39565 0.29926 C -0.43419 0.24792 -0.44808 0.20491 -0.4769 0.13529 C -0.48923 0.10569 -0.50624 0.07748 -0.51596 0.04649 C -0.48541 -0.02983 -0.42308 -0.04347 -0.36388 -0.05203 C -0.3394 -0.04833 -0.31648 -0.04417 -0.29287 -0.03469 C -0.26631 -0.03607 -0.23958 -0.03723 -0.21301 -0.03862 C -0.20381 -0.03908 -0.19461 -0.04186 -0.18558 -0.04047 C -0.17794 -0.03931 -0.17135 -0.03261 -0.16388 -0.03076 C -0.14617 -0.02613 -0.12794 -0.02382 -0.11023 -0.01919 C -0.10537 -0.01804 -0.09565 -0.01549 -0.09565 -0.01549 E">
                                      <p:cBhvr>
                                        <p:cTn id="40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"/>
              </a:rPr>
              <a:t>Favourite fo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favourite food is KATSU CU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also like eating sausag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421000"/>
            <a:ext cx="2592360" cy="1940040"/>
          </a:xfrm>
          <a:prstGeom prst="rect">
            <a:avLst/>
          </a:prstGeom>
          <a:ln w="63360">
            <a:solidFill>
              <a:srgbClr val="ffffff"/>
            </a:solidFill>
            <a:prstDash val="dash"/>
            <a:miter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700360" y="3860640"/>
            <a:ext cx="2521080" cy="2362320"/>
          </a:xfrm>
          <a:prstGeom prst="rect">
            <a:avLst/>
          </a:prstGeom>
          <a:ln w="63360">
            <a:solidFill>
              <a:srgbClr val="000000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07:54:15Z</dcterms:created>
  <dc:creator>Justin</dc:creator>
  <dc:description/>
  <dc:language>en-US</dc:language>
  <cp:lastModifiedBy>Justin</cp:lastModifiedBy>
  <dcterms:modified xsi:type="dcterms:W3CDTF">2008-08-27T10:41:49Z</dcterms:modified>
  <cp:revision>6</cp:revision>
  <dc:subject/>
  <dc:title>All about Me</dc:title>
</cp:coreProperties>
</file>